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09E-E0A2-4526-AB93-F4CB63F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95D-3134-4E64-B2E8-2D782FDA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87D-D609-4C84-8D68-0192C692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D37-2F4E-4290-8464-0089D56F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A0A-51EA-4651-881A-81D84C3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11E-0060-4192-BDCC-C42F24FF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19C-6DCD-4C03-A364-73008DE2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484-81B4-4B82-8C9A-AE474D18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B93-85AF-4124-A6F4-1F4CB080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5BB-A895-44C4-960B-D3EFC99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777-C707-455D-A9E8-DA4BFFE3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650-DB60-4CBD-B518-AC3BEDF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AE5F-4AC0-4AE1-AA41-E8BBAF660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F69-0FE5-4689-97D1-179C99A0EA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bfields of Psych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036800"/>
          <a:ext cx="7772400" cy="5709960"/>
        </p:xfrm>
        <a:graphic>
          <a:graphicData uri="http://schemas.openxmlformats.org/drawingml/2006/table">
            <a:tbl>
              <a:tblPr/>
              <a:tblGrid>
                <a:gridCol w="2662200"/>
                <a:gridCol w="511020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sycholog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at she/he do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uropsycholog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the relationship between neurological processes and behav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sychometric &amp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Quantit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methods and techniques used to acquire psychological knowled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habilit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orks with people with loss of functioning to restore some or all of 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sesses and intervenes with children in school set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oc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our interactions with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por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the factors involved in physical activities to apply it to everyday knowled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CEF-0F8F-4E9E-89F2-33EAF3394E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eparing Early for Graduate Study in Psyc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362320"/>
            <a:ext cx="51814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come involved in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olunteer in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t good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y and take the 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E2A-0DAD-40AF-B00D-633374EAE7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9280" y="222408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Careers in Psychology 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Appendix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44144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C74-D332-426A-8B60-239AA0FCD2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areers in Psycholo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0840" y="1595520"/>
            <a:ext cx="59385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reparing for a Career in Psych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Bachelor’s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stgraduate Deg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873-1D79-4103-B8CB-DD40A59A57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areers in Psycholo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625788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Subfields of Psych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reparing Early for Graduate Study in Psych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A97-B799-4B45-9E96-A7B7072FC0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reparing for a Career in Psyc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743200"/>
            <a:ext cx="7010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 Linotype"/>
              </a:rPr>
              <a:t>As th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alatino Linotype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Palatino Linotype"/>
              </a:rPr>
              <a:t> most popular college major in the U.S., psychology prepares students for a vast array of job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457-D9EB-424C-8713-9A15455ED2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Bachelor’s Deg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752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y undergraduates offer important skills which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312408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terpersonal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llingness to learn new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daptability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ritical-thin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roblem-solv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BD0-20EE-4FA1-91DD-78A96F1CA5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ostgraduate Deg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133720"/>
            <a:ext cx="77724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he Master’s Degre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2+ years of graduate study in a subfield of psychology and an internship &amp;/or 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Doctoral Degree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5-7 years of graduate study in a subfield of psychology and to ear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Ph.D. (doctor of philosophy), completion of a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sser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Psy.D. (doctor of psychology), completion of clinical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k and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038-230C-40E3-A663-B7DD4A6EE3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ubfields of Psyc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772400" cy="4494240"/>
        </p:xfrm>
        <a:graphic>
          <a:graphicData uri="http://schemas.openxmlformats.org/drawingml/2006/table">
            <a:tbl>
              <a:tblPr/>
              <a:tblGrid>
                <a:gridCol w="2662200"/>
                <a:gridCol w="5110200"/>
              </a:tblGrid>
              <a:tr h="892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sycholog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at she/he do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linical (licensed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, assesses, and treats people with psychological disor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g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how we perceive, think, and solve proble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mmun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nhances environmental setting to improve individual func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unsel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Helps with adjustment problems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velopmen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nducts &amp; applies research in age-related behavioral chang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A57-32E2-4858-86B0-E50D0000CA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bfields of Psych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447920"/>
          <a:ext cx="7772400" cy="5249880"/>
        </p:xfrm>
        <a:graphic>
          <a:graphicData uri="http://schemas.openxmlformats.org/drawingml/2006/table">
            <a:tbl>
              <a:tblPr/>
              <a:tblGrid>
                <a:gridCol w="2662200"/>
                <a:gridCol w="5110200"/>
              </a:tblGrid>
              <a:tr h="80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sycholog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at she/he do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ducatio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relationships between learning and environm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xperimental (research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vestigates a variety of behavioral processes in humans and anim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Heal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ocuses on health promotion and disease preven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4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orens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pplies psychological principles in the areas of research, policy, and law enforc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dustrial/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rganizational (I/O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the relationship between people and their work environm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A1E-A0B2-408D-8075-19CFBDC39B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HBPUB</cp:lastModifiedBy>
  <dcterms:modified xsi:type="dcterms:W3CDTF">2008-12-16T17:31:01Z</dcterms:modified>
  <cp:revision>773</cp:revision>
  <dc:subject/>
  <dc:title>Memory</dc:title>
</cp:coreProperties>
</file>